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D1DF-5B6B-4825-98D9-882C9227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56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016-B075-4B77-A8E5-43A41A22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56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56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6D6-7641-4848-94BD-230A1AF0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59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59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56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56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56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E416-E11D-4D18-AF25-D31EE3D9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983C-1CF0-436D-8A02-65B1626C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5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A09D-6732-4C61-A216-4E1F1BA2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D54F-8329-47EE-AD51-A12515EA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592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A585-E5A3-4C28-A1F8-F2FFC121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C175-91E6-449F-BF94-27AF948E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20280"/>
            <a:ext cx="6707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4352-F658-4722-B08B-5EB68E61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592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956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D23D-5B87-488D-B90F-FE8F2511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5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C79-98AF-40B5-95CF-E8790ECB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3956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CC33-FD50-482F-AAA0-8E118CE7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956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0A51-6FC7-4E9C-AF9D-9AE39D3D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956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50B2-106D-45F5-8C64-BE21C00D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956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3956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8748-773B-45F3-A52A-DFF86135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159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159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956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3956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3956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C91D-5183-418C-99C3-B8F85F56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F8F-9141-4336-BF60-A99AA3F0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592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84D1-C930-4EA4-BA1A-CA4342F1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883-CC46-4397-B340-E13D5989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620280"/>
            <a:ext cx="6707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5C0D-BF46-4460-B28A-6159D7AA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592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56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AB9A-74C1-4EA3-83BB-E75DCA33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56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C56D-E530-438C-AA6A-1E2B069E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59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56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CD6-B261-4CAD-B0B1-05636D7E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1d4d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d4d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1d4d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3788-DC05-486E-BE86-3A905D4522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solidFill>
            <a:srgbClr val="fdbb31"/>
          </a:solidFill>
          <a:ln w="9360">
            <a:solidFill>
              <a:srgbClr val="fdb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093080" y="185760"/>
            <a:ext cx="18637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575784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1d4d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7EFF-EBFD-47CD-B783-625C2E2ED5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d4d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d4d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1d4d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d4d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1d4d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1d4d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4d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71640" y="441000"/>
            <a:ext cx="27730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5971"/>
                </a:solidFill>
                <a:latin typeface="Arial"/>
              </a:rPr>
              <a:t>MOB1</a:t>
            </a:r>
            <a:endParaRPr b="1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02920" y="1736640"/>
            <a:ext cx="49690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5971"/>
                </a:solidFill>
                <a:latin typeface="Arial"/>
              </a:rPr>
              <a:t>Your Local Link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5971"/>
                </a:solidFill>
                <a:latin typeface="Arial"/>
              </a:rPr>
              <a:t>to Rapid Rescue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448000" y="512640"/>
            <a:ext cx="2235240" cy="785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87280" y="404640"/>
            <a:ext cx="1770120" cy="62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MO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88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cueME MOB1 the world’s smallest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Man Overboard Locating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IS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SC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30% (typ) smaller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utomatic Activation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imple Lifejacket Integration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74560" y="4187880"/>
            <a:ext cx="835200" cy="646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265880" y="1413000"/>
            <a:ext cx="1482840" cy="5256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74560" y="2602080"/>
            <a:ext cx="827280" cy="642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76360" y="3433680"/>
            <a:ext cx="826920" cy="642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76360" y="4976640"/>
            <a:ext cx="831600" cy="642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574560" y="5697360"/>
            <a:ext cx="831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MO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88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cueME MOB1 the world’s smallest Man Overboard Locating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4+ hours operational life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 year battery replacement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 year warranty*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265880" y="1413000"/>
            <a:ext cx="1482840" cy="5256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74560" y="2602080"/>
            <a:ext cx="831960" cy="642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74560" y="3432240"/>
            <a:ext cx="831960" cy="642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74560" y="4152960"/>
            <a:ext cx="831960" cy="642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warranty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MO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7280" y="1600200"/>
            <a:ext cx="853272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its AIS &amp; DSC alerts direct to your vessel with GPS positi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87280" y="3105000"/>
            <a:ext cx="8569440" cy="34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1d4db"/>
                </a:solidFill>
                <a:latin typeface="Arial"/>
              </a:rPr>
              <a:t>MOB Comparison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920" y="6453360"/>
            <a:ext cx="55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c1d4db"/>
                </a:solidFill>
                <a:latin typeface="Arial"/>
              </a:rPr>
              <a:t>* DSC functionality is subject to regulations of coun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449360"/>
          <a:ext cx="8174160" cy="4881600"/>
        </p:xfrm>
        <a:graphic>
          <a:graphicData uri="http://schemas.openxmlformats.org/drawingml/2006/table">
            <a:tbl>
              <a:tblPr/>
              <a:tblGrid>
                <a:gridCol w="909720"/>
                <a:gridCol w="906480"/>
                <a:gridCol w="907920"/>
                <a:gridCol w="984240"/>
                <a:gridCol w="831960"/>
                <a:gridCol w="909360"/>
                <a:gridCol w="908280"/>
                <a:gridCol w="906480"/>
                <a:gridCol w="909720"/>
              </a:tblGrid>
              <a:tr h="99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rescueME MOB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McMurdo S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McMurdo S20 / Kannad R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sMRT AU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sMRT V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Easy-RESC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Easy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ACR AIS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P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$299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$279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$279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T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T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T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T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$289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C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 activation on L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op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op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ery Life (hrs/-20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24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2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2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48 (-10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(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ensions (m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34x38x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99x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24x67x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80x95x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37x51x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25x68x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68x48x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1d4db"/>
                          </a:solidFill>
                          <a:latin typeface="Arial"/>
                        </a:rPr>
                        <a:t>129x52x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1d4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27280" y="1557360"/>
            <a:ext cx="244440" cy="863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692360" y="3824280"/>
            <a:ext cx="2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69236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727280" y="4329000"/>
            <a:ext cx="2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69236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69236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9236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400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62728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400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27280" y="4329000"/>
            <a:ext cx="177840" cy="1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4000" y="4292640"/>
            <a:ext cx="2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156360" y="1557360"/>
            <a:ext cx="447480" cy="830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600360" y="1557360"/>
            <a:ext cx="285840" cy="755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2664000" y="1557360"/>
            <a:ext cx="20628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8099280" y="6489720"/>
            <a:ext cx="7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15-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19272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42764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35600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15636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292720" y="3789360"/>
            <a:ext cx="2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56360" y="4292640"/>
            <a:ext cx="2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427640" y="429264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256360" y="4292640"/>
            <a:ext cx="250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29272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42764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35600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427640" y="429264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42764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35600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256360" y="4292640"/>
            <a:ext cx="250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427640" y="429264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42764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35600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292720" y="3789360"/>
            <a:ext cx="2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256360" y="4292640"/>
            <a:ext cx="250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427640" y="429264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42764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5600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42764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5600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29272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42764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35600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15636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29272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42764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35600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5362560" y="1557360"/>
            <a:ext cx="322200" cy="86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4319640" y="1628640"/>
            <a:ext cx="584280" cy="628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7105680" y="1484280"/>
            <a:ext cx="387360" cy="936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7128000" y="3392640"/>
            <a:ext cx="250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16436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164360" y="4292640"/>
            <a:ext cx="2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064360" y="3392640"/>
            <a:ext cx="250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101080" y="3824280"/>
            <a:ext cx="1778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064360" y="4292640"/>
            <a:ext cx="2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Wingdings"/>
              </a:rPr>
              <a:t>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Wingdings"/>
              <a:ea typeface="Wingding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8028000" y="1592280"/>
            <a:ext cx="324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72828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bb31"/>
                </a:solidFill>
                <a:latin typeface="Arial"/>
              </a:rPr>
              <a:t>rescueME MOB1</a:t>
            </a:r>
            <a:endParaRPr b="0" lang="en-US" sz="4800" spc="-1" strike="noStrike">
              <a:solidFill>
                <a:srgbClr val="c1d4db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d4db"/>
                </a:solidFill>
                <a:latin typeface="Arial"/>
              </a:rPr>
              <a:t>The World’s smallest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n Overboard Locating Device</a:t>
            </a:r>
            <a:endParaRPr b="0" lang="en-US" sz="4000" spc="-1" strike="noStrike">
              <a:solidFill>
                <a:srgbClr val="c1d4d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MO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778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cueME MOB1 the world’s smalles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n Overboard Locating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S</a:t>
            </a:r>
            <a:endParaRPr b="0" lang="en-US" sz="32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65880" y="1413000"/>
            <a:ext cx="1482840" cy="5256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74560" y="2602080"/>
            <a:ext cx="827280" cy="64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MO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77708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 Identification System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s the position of the MOB on your AIS connected plotter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s        symbol*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Distance and Bearing to person*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d 66 channel GPS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lays ‘MOB ACTIVE’ message*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352520"/>
            <a:ext cx="1324080" cy="103032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3600360" y="3321000"/>
            <a:ext cx="503280" cy="504720"/>
            <a:chOff x="3600360" y="3321000"/>
            <a:chExt cx="503280" cy="504720"/>
          </a:xfrm>
        </p:grpSpPr>
        <p:sp>
          <p:nvSpPr>
            <p:cNvPr id="96" name=""/>
            <p:cNvSpPr/>
            <p:nvPr/>
          </p:nvSpPr>
          <p:spPr>
            <a:xfrm>
              <a:off x="3600360" y="3321000"/>
              <a:ext cx="503280" cy="504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672360" y="3401280"/>
              <a:ext cx="359280" cy="35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72360" y="3391560"/>
              <a:ext cx="359280" cy="35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compatible plo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MO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778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cueME MOB1 the world’s smalles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n Overboard Locating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IS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SC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265880" y="1413000"/>
            <a:ext cx="1482840" cy="525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4560" y="2602080"/>
            <a:ext cx="827280" cy="642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76360" y="3433680"/>
            <a:ext cx="826920" cy="642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C functionality is subject to regulations of cou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MO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77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Selective Calling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nds alarm on ship’s compatible DSC VHF radio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ts position immediately GPS fix is obtained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onally a manually activated All Ships Distress Alert can be transmitted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0">
              <a:spcBef>
                <a:spcPts val="601"/>
              </a:spcBef>
              <a:buNone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352520"/>
            <a:ext cx="1324080" cy="1028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C functionality is subject to regulations of cou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MO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778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cueME MOB1 the world’s smallest Man Overboard Locating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IS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SC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30% (typ) smaller</a:t>
            </a:r>
            <a:r>
              <a:rPr b="0" lang="en-GB" sz="36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308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d to other products approved to recognised standards (Aug 201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4560" y="4187880"/>
            <a:ext cx="835200" cy="646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265880" y="1413000"/>
            <a:ext cx="1482840" cy="525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74560" y="2602080"/>
            <a:ext cx="827280" cy="642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76360" y="3433680"/>
            <a:ext cx="8269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MO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77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0% (typ) smaller by volume than the competitors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Lighter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world’s most compact MOB allows for easy packing in a lifejacket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2" marL="222264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8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the smallest 150N types</a:t>
            </a:r>
            <a:endParaRPr b="0" lang="en-US" sz="20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353960"/>
            <a:ext cx="133200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MO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778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cueME MOB1 the world’s smallest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Man Overboard Locating Beac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IS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SC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30% (typ) smaller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utomatic Activation</a:t>
            </a: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74560" y="4187880"/>
            <a:ext cx="835200" cy="64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265880" y="1413000"/>
            <a:ext cx="1482840" cy="5256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74560" y="2602080"/>
            <a:ext cx="827280" cy="642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76360" y="3433680"/>
            <a:ext cx="826920" cy="642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74560" y="4946760"/>
            <a:ext cx="831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670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d4db"/>
                </a:solidFill>
                <a:latin typeface="Arial"/>
              </a:rPr>
              <a:t>rescueME MOB1</a:t>
            </a:r>
            <a:endParaRPr b="0" lang="en-US" sz="4400" spc="-1" strike="noStrike">
              <a:solidFill>
                <a:srgbClr val="c1d4d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920" y="1599840"/>
            <a:ext cx="550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 Activation</a:t>
            </a:r>
            <a:endParaRPr b="0" lang="en-US" sz="28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to clip on oral inflation tube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y wrap supplied tape around lifejacket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mounted on left or right hand side inflation tubes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  <a:p>
            <a:pPr lvl="1" marL="1252440" indent="-350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8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ically activates when lifejacket inflates</a:t>
            </a:r>
            <a:endParaRPr b="0" lang="en-US" sz="2400" spc="-1" strike="noStrike">
              <a:solidFill>
                <a:srgbClr val="c1d4db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352520"/>
            <a:ext cx="13320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505560" y="1700280"/>
            <a:ext cx="2638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2:16:40Z</dcterms:created>
  <dc:creator>David Sheekey</dc:creator>
  <dc:description/>
  <dc:language>en-US</dc:language>
  <cp:lastModifiedBy>David</cp:lastModifiedBy>
  <dcterms:modified xsi:type="dcterms:W3CDTF">2015-03-02T11:55:12Z</dcterms:modified>
  <cp:revision>181</cp:revision>
  <dc:subject/>
  <dc:title>rescueME PLB1</dc:title>
</cp:coreProperties>
</file>